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Sans titre - 1-02.png"/>
          <p:cNvPicPr/>
          <p:nvPr/>
        </p:nvPicPr>
        <p:blipFill>
          <a:blip r:embed="rId2"/>
          <a:stretch/>
        </p:blipFill>
        <p:spPr>
          <a:xfrm>
            <a:off x="-179280" y="7265880"/>
            <a:ext cx="7234200" cy="1952640"/>
          </a:xfrm>
          <a:prstGeom prst="rect">
            <a:avLst/>
          </a:prstGeom>
          <a:ln w="0">
            <a:noFill/>
          </a:ln>
        </p:spPr>
      </p:pic>
      <p:pic>
        <p:nvPicPr>
          <p:cNvPr id="37" name="Image 2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179280" y="7059600"/>
            <a:ext cx="2340000" cy="25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Sans titre - 1-03.png"/>
          <p:cNvPicPr/>
          <p:nvPr/>
        </p:nvPicPr>
        <p:blipFill>
          <a:blip r:embed="rId2"/>
          <a:stretch/>
        </p:blipFill>
        <p:spPr>
          <a:xfrm>
            <a:off x="-66600" y="7265880"/>
            <a:ext cx="6985080" cy="1833840"/>
          </a:xfrm>
          <a:prstGeom prst="rect">
            <a:avLst/>
          </a:prstGeom>
          <a:ln w="0">
            <a:noFill/>
          </a:ln>
        </p:spPr>
      </p:pic>
      <p:pic>
        <p:nvPicPr>
          <p:cNvPr id="75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179280" y="7059600"/>
            <a:ext cx="2340000" cy="25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1" descr="Sans titre - 1-01.png"/>
          <p:cNvPicPr/>
          <p:nvPr/>
        </p:nvPicPr>
        <p:blipFill>
          <a:blip r:embed="rId2"/>
          <a:stretch/>
        </p:blipFill>
        <p:spPr>
          <a:xfrm>
            <a:off x="0" y="7265880"/>
            <a:ext cx="6858000" cy="18525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179280" y="7059600"/>
            <a:ext cx="2340000" cy="25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Sans titre - 1-04.png"/>
          <p:cNvPicPr/>
          <p:nvPr/>
        </p:nvPicPr>
        <p:blipFill>
          <a:blip r:embed="rId2"/>
          <a:stretch/>
        </p:blipFill>
        <p:spPr>
          <a:xfrm>
            <a:off x="0" y="7262640"/>
            <a:ext cx="6931080" cy="1870200"/>
          </a:xfrm>
          <a:prstGeom prst="rect">
            <a:avLst/>
          </a:prstGeom>
          <a:ln w="0">
            <a:noFill/>
          </a:ln>
        </p:spPr>
      </p:pic>
      <p:pic>
        <p:nvPicPr>
          <p:cNvPr id="151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179280" y="7059600"/>
            <a:ext cx="2340000" cy="2533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  <a:tab algn="l" pos="1051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  <a:tab algn="l" pos="1051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  <a:tab algn="l" pos="1051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879480"/>
            <a:ext cx="6858000" cy="814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83840" y="7602480"/>
            <a:ext cx="59868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327040" y="7421400"/>
            <a:ext cx="4530600" cy="3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327040" y="7756560"/>
            <a:ext cx="3927240" cy="71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64080" y="8559720"/>
            <a:ext cx="3473280" cy="284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9089640"/>
            <a:ext cx="685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83840" y="7602480"/>
            <a:ext cx="598680" cy="426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327040" y="7421400"/>
            <a:ext cx="4530600" cy="3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327040" y="7756560"/>
            <a:ext cx="3927240" cy="71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64080" y="8559720"/>
            <a:ext cx="3473280" cy="284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-879480"/>
            <a:ext cx="6858000" cy="8145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9089640"/>
            <a:ext cx="685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83840" y="7602480"/>
            <a:ext cx="598680" cy="426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327040" y="7421400"/>
            <a:ext cx="4530600" cy="3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27040" y="7756560"/>
            <a:ext cx="3927240" cy="71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664080" y="8559720"/>
            <a:ext cx="3473280" cy="284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-879480"/>
            <a:ext cx="6858000" cy="8145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9089640"/>
            <a:ext cx="685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83840" y="7602480"/>
            <a:ext cx="598680" cy="426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2327040" y="7421400"/>
            <a:ext cx="4530600" cy="3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327040" y="7756560"/>
            <a:ext cx="3927240" cy="71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64080" y="8559720"/>
            <a:ext cx="3473280" cy="284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-879480"/>
            <a:ext cx="6858000" cy="8145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9089640"/>
            <a:ext cx="685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40:45Z</dcterms:created>
  <dc:creator>Geoffrey FOSSEUX</dc:creator>
  <dc:description/>
  <dc:language>en-US</dc:language>
  <cp:lastModifiedBy>Geoffrey FOSSEUX</cp:lastModifiedBy>
  <dcterms:modified xsi:type="dcterms:W3CDTF">2015-06-04T08:35:12Z</dcterms:modified>
  <cp:revision>12</cp:revision>
  <dc:subject/>
  <dc:title>Présentation PowerPoint</dc:title>
</cp:coreProperties>
</file>