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" y="687384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90752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0128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2304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88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40128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32304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79880" y="2995560"/>
            <a:ext cx="86407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86407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79880" y="510480"/>
            <a:ext cx="8640720" cy="9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79880" y="2995560"/>
            <a:ext cx="86407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0752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880" y="687384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90752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0128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2304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988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40128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32304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79880" y="2995560"/>
            <a:ext cx="86407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86407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86407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79880" y="510480"/>
            <a:ext cx="8640720" cy="9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0752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880" y="687384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90752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40128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32304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7988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40128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32304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79880" y="2995560"/>
            <a:ext cx="86407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86407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79880" y="510480"/>
            <a:ext cx="8640720" cy="9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0752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9880" y="687384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0752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40128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32304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7988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40128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32304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79880" y="2995560"/>
            <a:ext cx="86407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86407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79880" y="510480"/>
            <a:ext cx="8640720" cy="9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0752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9880" y="687384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0752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79880" y="510480"/>
            <a:ext cx="8640720" cy="9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40128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2304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7988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40128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32304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0752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Image 1" descr="Sans titre - 1-02.png"/>
          <p:cNvPicPr/>
          <p:nvPr/>
        </p:nvPicPr>
        <p:blipFill>
          <a:blip r:embed="rId2"/>
          <a:stretch/>
        </p:blipFill>
        <p:spPr>
          <a:xfrm>
            <a:off x="-250920" y="9390240"/>
            <a:ext cx="10128240" cy="2523960"/>
          </a:xfrm>
          <a:prstGeom prst="rect">
            <a:avLst/>
          </a:prstGeom>
          <a:ln w="0">
            <a:noFill/>
          </a:ln>
        </p:spPr>
      </p:pic>
      <p:pic>
        <p:nvPicPr>
          <p:cNvPr id="37" name="Image 2" descr="Sans titre - 1.png"/>
          <p:cNvPicPr/>
          <p:nvPr/>
        </p:nvPicPr>
        <p:blipFill>
          <a:blip r:embed="rId3"/>
          <a:srcRect l="0" t="0" r="62991" b="0"/>
          <a:stretch/>
        </p:blipFill>
        <p:spPr>
          <a:xfrm>
            <a:off x="-250920" y="9123480"/>
            <a:ext cx="3275280" cy="32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 1" descr="Sans titre - 1-03.png"/>
          <p:cNvPicPr/>
          <p:nvPr/>
        </p:nvPicPr>
        <p:blipFill>
          <a:blip r:embed="rId2"/>
          <a:stretch/>
        </p:blipFill>
        <p:spPr>
          <a:xfrm>
            <a:off x="-93600" y="9390240"/>
            <a:ext cx="9779040" cy="2368440"/>
          </a:xfrm>
          <a:prstGeom prst="rect">
            <a:avLst/>
          </a:prstGeom>
          <a:ln w="0">
            <a:noFill/>
          </a:ln>
        </p:spPr>
      </p:pic>
      <p:pic>
        <p:nvPicPr>
          <p:cNvPr id="75" name="Image 3" descr="Sans titre - 1.png"/>
          <p:cNvPicPr/>
          <p:nvPr/>
        </p:nvPicPr>
        <p:blipFill>
          <a:blip r:embed="rId3"/>
          <a:srcRect l="0" t="0" r="62991" b="0"/>
          <a:stretch/>
        </p:blipFill>
        <p:spPr>
          <a:xfrm>
            <a:off x="-250920" y="9123480"/>
            <a:ext cx="3275280" cy="32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mage 1" descr="Sans titre - 1-01.png"/>
          <p:cNvPicPr/>
          <p:nvPr/>
        </p:nvPicPr>
        <p:blipFill>
          <a:blip r:embed="rId2"/>
          <a:stretch/>
        </p:blipFill>
        <p:spPr>
          <a:xfrm>
            <a:off x="0" y="9390240"/>
            <a:ext cx="9601200" cy="2393640"/>
          </a:xfrm>
          <a:prstGeom prst="rect">
            <a:avLst/>
          </a:prstGeom>
          <a:ln w="0">
            <a:noFill/>
          </a:ln>
        </p:spPr>
      </p:pic>
      <p:pic>
        <p:nvPicPr>
          <p:cNvPr id="113" name="Image 3" descr="Sans titre - 1.png"/>
          <p:cNvPicPr/>
          <p:nvPr/>
        </p:nvPicPr>
        <p:blipFill>
          <a:blip r:embed="rId3"/>
          <a:srcRect l="0" t="0" r="62991" b="0"/>
          <a:stretch/>
        </p:blipFill>
        <p:spPr>
          <a:xfrm>
            <a:off x="-250920" y="9123480"/>
            <a:ext cx="3275280" cy="32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Image 1" descr="Sans titre - 1-04.png"/>
          <p:cNvPicPr/>
          <p:nvPr/>
        </p:nvPicPr>
        <p:blipFill>
          <a:blip r:embed="rId2"/>
          <a:stretch/>
        </p:blipFill>
        <p:spPr>
          <a:xfrm>
            <a:off x="0" y="9385200"/>
            <a:ext cx="9702720" cy="2417760"/>
          </a:xfrm>
          <a:prstGeom prst="rect">
            <a:avLst/>
          </a:prstGeom>
          <a:ln w="0">
            <a:noFill/>
          </a:ln>
        </p:spPr>
      </p:pic>
      <p:pic>
        <p:nvPicPr>
          <p:cNvPr id="151" name="Image 3" descr="Sans titre - 1.png"/>
          <p:cNvPicPr/>
          <p:nvPr/>
        </p:nvPicPr>
        <p:blipFill>
          <a:blip r:embed="rId3"/>
          <a:srcRect l="0" t="0" r="62991" b="0"/>
          <a:stretch/>
        </p:blipFill>
        <p:spPr>
          <a:xfrm>
            <a:off x="-250920" y="9123480"/>
            <a:ext cx="3275280" cy="32749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79880" y="2995560"/>
            <a:ext cx="86407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1" marL="1039680" indent="-39996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2" marL="1600200" indent="-3189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2239920" indent="-318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879640" indent="-3189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879640" indent="-3189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879640" indent="-3189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-1136880"/>
            <a:ext cx="9601200" cy="10526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938240" y="9825120"/>
            <a:ext cx="836640" cy="550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3258720" y="9591840"/>
            <a:ext cx="63421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58720" y="10023480"/>
            <a:ext cx="54975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128920" y="11061360"/>
            <a:ext cx="48639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0" y="11747520"/>
            <a:ext cx="960120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38240" y="9825120"/>
            <a:ext cx="836640" cy="550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3258720" y="9591840"/>
            <a:ext cx="63421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58720" y="10023480"/>
            <a:ext cx="54975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128920" y="11061360"/>
            <a:ext cx="48639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-1136880"/>
            <a:ext cx="9601200" cy="10526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11747520"/>
            <a:ext cx="960120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938240" y="9825120"/>
            <a:ext cx="836640" cy="550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3258720" y="9591840"/>
            <a:ext cx="63421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258720" y="10023480"/>
            <a:ext cx="54975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128920" y="11061360"/>
            <a:ext cx="48639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-1136880"/>
            <a:ext cx="9601200" cy="105267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11747520"/>
            <a:ext cx="960120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38240" y="9825120"/>
            <a:ext cx="836640" cy="550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3258720" y="9591840"/>
            <a:ext cx="63421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258720" y="10023480"/>
            <a:ext cx="54975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128920" y="11061360"/>
            <a:ext cx="48639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-1136880"/>
            <a:ext cx="9601200" cy="105267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11747520"/>
            <a:ext cx="960120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1T08:40:45Z</dcterms:created>
  <dc:creator>Geoffrey FOSSEUX</dc:creator>
  <dc:description/>
  <dc:language>en-US</dc:language>
  <cp:lastModifiedBy>Geoffrey FOSSEUX</cp:lastModifiedBy>
  <dcterms:modified xsi:type="dcterms:W3CDTF">2015-06-04T08:13:15Z</dcterms:modified>
  <cp:revision>11</cp:revision>
  <dc:subject/>
  <dc:title>Présentation PowerPoint</dc:title>
</cp:coreProperties>
</file>